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F715C-7A87-4F87-94A6-930DA5EF6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73F94-A9DD-46B2-A0D3-EB510355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09AD9-8002-47D8-B466-67FB1B656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12B69-C3B8-4559-BD4C-A88EC7AE7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E493-73BE-4CE5-AB81-9AF8688CF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E452C-1C87-40F0-B074-AFA128FD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03AE6-1688-43D5-9B47-8F81FCD3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50AD-8E96-4BE1-A454-21525266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C643-A17E-4AF0-9398-3D554823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BDF2-0826-4C59-8E38-F3ACFACF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64C0B-ACB7-4CA3-AFAB-5F466C5A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3F252-AEA2-44FB-AD1E-99AA4CF9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306B-5433-4797-BFBF-CB861784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A22D-3546-4C09-8BD2-59BC1E3A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02F7-E4AD-43F8-8B74-4DBDDF49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07BC-174C-4D10-9EAB-0BA207957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EE84A-D193-4D78-A9B1-4FB4115B6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70FC3-EF3B-4492-98B6-B921B68F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449AF-8806-4030-9E15-0E3B5175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50BE0-0A73-45A8-A13A-08897268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0D092-74BA-49B1-9BA0-04D03003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F2EEB-81A2-4FFD-A884-1986BB72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B22C1-31E9-4A35-9CFF-9A60550E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568FB-B56A-4124-A89B-EFC959CF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22D7-8811-431F-8234-F705354715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EFD8-01A3-4EB2-A08A-D0D080A339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Garamond"/>
              </a:rPr>
              <a:t>Luxembour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84720" y="5516280"/>
            <a:ext cx="2602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Garamond"/>
              </a:rPr>
              <a:t>Trabalho realizado por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Garamond"/>
              </a:rPr>
              <a:t>António Tavares n 2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Garamond"/>
              </a:rPr>
              <a:t>Samuel Duarte n 1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3543480" cy="2276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Garamond"/>
              </a:rPr>
              <a:t>Capital C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628640"/>
            <a:ext cx="24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Luxembou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340000" y="2205000"/>
            <a:ext cx="5826240" cy="43704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Garamond"/>
              </a:rPr>
              <a:t>Population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"/>
          <p:cNvSpPr/>
          <p:nvPr/>
        </p:nvSpPr>
        <p:spPr>
          <a:xfrm>
            <a:off x="1258920" y="2205000"/>
            <a:ext cx="6626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Garamond"/>
              </a:rPr>
              <a:t>Population (2009 est.): 491,775 (growth rate: 1.1%); birth rate: 11.7/1000; infant mortality rate: 4.5/1000; life expectancy: 79.3; density per sq km: 187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Garamond"/>
              </a:rPr>
              <a:t>Languag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Language is German,French and Luxembour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Garamond"/>
              </a:rPr>
              <a:t>How to get the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17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By c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By b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By pla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By tra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484360" y="1413000"/>
            <a:ext cx="2664000" cy="1805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940360" y="1557360"/>
            <a:ext cx="2121120" cy="2120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116000" y="4076640"/>
            <a:ext cx="2903400" cy="217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4859280" y="4292640"/>
            <a:ext cx="3089160" cy="2035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Garamond"/>
              </a:rPr>
              <a:t>Photos of the Count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6335640" cy="40003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775480" y="0"/>
            <a:ext cx="3368520" cy="3500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3068640"/>
            <a:ext cx="5715000" cy="36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050920" y="476280"/>
            <a:ext cx="4735800" cy="5715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Garamond"/>
              </a:rPr>
              <a:t>Interesting places to visi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2465280" cy="3284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39640" y="501336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Mullerth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924360" y="1341360"/>
            <a:ext cx="4648320" cy="3248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211640" y="515772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Garamond"/>
              </a:rPr>
              <a:t>Arden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09:23:37Z</dcterms:created>
  <dc:creator>Utilizador</dc:creator>
  <dc:description/>
  <dc:language>en-US</dc:language>
  <cp:lastModifiedBy>Utilizador</cp:lastModifiedBy>
  <dcterms:modified xsi:type="dcterms:W3CDTF">2009-11-11T12:56:41Z</dcterms:modified>
  <cp:revision>3</cp:revision>
  <dc:subject/>
  <dc:title>Luxembourg</dc:title>
</cp:coreProperties>
</file>